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E04-0B84-4CFC-8A38-9EEEE609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1C9-9D84-4865-A0E2-1F433B1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EA4-FF70-4363-9728-97F78A5D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EA2-3346-4936-AC1B-45F16FBF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D305-A206-40E5-8A5A-41EBABC7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66C3-BFE1-4074-A485-AAD314A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96D4-D199-4063-9F51-4A9B60C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D6ED-68B2-4119-B964-3A6BD66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0821-ECC2-4097-82D9-4B78BDAC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590E-CF86-4F04-B53B-6F9572F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6B56-7270-4B33-8489-4F9D58A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078-84EA-410E-9DD1-874C843E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6038-B16F-4C66-A466-77EF7684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1334-0E40-4CD2-91F4-F38C9092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F078-C61B-4C89-AD52-B956605F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DEF7-FB2B-4B11-9F39-B7A231ED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2DD1-AD93-49F0-93A4-7AADFCF6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97C129-33FD-4346-83A3-7B3025C6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41FCB-6EBD-4D75-89F0-FC847ADA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DAFB9-7ABA-4B0C-AA66-4297847F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AF564-A666-405E-A7AA-0694819A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AE2D6-18CB-4A0B-9292-A1C90E8A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ADE-BA3C-4F2A-BDDD-7BB40718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900E1-CE34-4C9A-9D45-E3B29BFF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38AB4D-601B-45CA-809B-2E4795EA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D97D6-B8AA-418E-BF75-766C22EE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3CAEA-F773-411B-B4F1-1F1973F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00775-23D3-4EE1-A051-E1AB79B9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9B26E-A9FF-4498-9DEF-7F5B1E5D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98132-07C9-4468-B43E-B3E06B8F3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F8D9C7-7155-43DA-9B2D-4EC6860E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760A8-3079-4C4F-8840-DE1D4C6E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A368C-5F04-40DC-8DC2-5F2A705F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977-2358-43B3-8A0B-BEC05206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024AA8-E94E-490B-92AE-DB3583A7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125CA-71D5-44F5-909F-CB430746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71CDD3-18B8-4538-91FC-AD19DA72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38804-C892-4BD2-B635-98BC47B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1E24C-0E13-4B9A-930E-14BD9E19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9BCC0-7DAC-4A2F-BD05-115DBA31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E5BC65-219F-4ADF-A0D6-60DA7714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3424F-F7BA-488A-BB88-DAAA3F2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6C485-95B7-4E3B-BC68-0E731FA9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5CB46-4476-466C-AE98-D053C0DA1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C92D-387E-427A-9705-6C73598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1AE2C-CD53-48BE-82D6-1D8ABEEC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8B0E0-3CAC-45DC-A735-A882ECE8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0D11E-407D-43DC-AD2F-052C82D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9CF18-C14F-491D-85E3-2AD7758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EEC139-05DF-4269-9ADB-D745F7A0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5AE73-AE47-4E35-B1F6-1DBF785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DC949-16FE-4034-B4AB-0B16CF7B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54BAF-E041-4DD4-8C04-5B9AE75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F1D66-F361-4C63-A94E-0323FFA3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10688-961A-4C59-A80F-2F5DDB59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F06-5AB1-4562-BCCB-A0898C64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CEEDC3-0902-4DDC-BA15-A23E12B3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4981-36E1-4EA3-B030-E6548312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701CE-C980-4AFA-AAB1-D7C7B2C8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7D205-92B6-4DA6-A6B2-B610119A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8DE2-E1E6-47C7-B79C-704258EF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A4902-2BEC-4936-B012-E64271CD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2915F-25B3-4B27-A66E-F0984A79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DF281-1CAD-4B1C-B72F-850AFCA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43F4B-0DE8-4CD8-8D31-914D70D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550B6-3032-4D0C-B3C6-E9C5D8F6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E19-7BED-4858-8719-F752D663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887E-8564-4AD9-86AF-8C3A604D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6215-B134-4031-B546-EEBCA1AE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7B99B-EF64-48F2-9D82-630D0045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A3651-0FA7-4A95-85E0-7CAD3E9B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7CBA5B-6E3A-4495-AA78-72223E7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9AE10-8681-4BDE-A1CD-798DCE24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5447D-29B5-49B9-B873-8D4C6529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A62AE-CB91-4F5E-80A8-9D0094D0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D6CBF-9BD1-4AB1-9B75-0E7100B7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5A2261-BA2F-454A-8EF9-CB9E7A2C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F80-CEF3-4DF1-B171-C335CF40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ED9C72-2C5A-4742-9DB5-D67327BD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C724D-CF03-42D9-AFA6-F5342669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FAB613-34E5-4BBC-93E7-FA2D92BD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ABD8B-0D58-4A3D-B7FD-62306EBC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3130A-7D00-47D4-A7F2-D0079475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D51DA-259B-410F-A9C2-6BBF65FE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679C-EA5B-4542-B9EE-3B82F3A7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E528-A517-442A-A819-51BFAB40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8A177-D9E3-4C88-ACAC-978B6661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151B-4A2A-41E8-8E0E-EBE9E3CD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024B-BE56-467A-92EF-FFF703C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151A-2465-4BA0-9D9C-A8A14085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03707-3C1A-4D17-8B5E-DFBE8D0C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6FEC-3F16-4E93-AD6E-D57261C8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381C-BE60-4B45-B526-90026FA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36DCF-A0CC-4337-B509-CD27C0F8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24E9-D2C3-4E01-A935-15605F0F8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34B8A-4F3A-4DC4-8D03-ACF01036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1B90-54A4-472C-9B65-51953C94D7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6B5A-170F-4166-8285-B72715849FBD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E0E0-14B2-41B4-A526-27585504ED76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3656-008E-44FF-85F5-791CFD81BA0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B7C3-FD5B-4DF6-BD6D-D59AAC9F38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A065-6418-41C2-AF87-83FEA7ECEBF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8267-38B5-4330-B7E3-1B3835B750D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85F-7AC2-41D8-B5BD-02C995E920A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ank went to the beach for the week.  He found 24 seashells on Monday, 18 shells on Tuesday and 12 shells on Wednesday.  He spent 2 hours swimming on Thursday.  On Friday, he swam for 3 hours and then built a sand castle in the shape of a squar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 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200400" y="4114800"/>
            <a:ext cx="2286000" cy="1676520"/>
          </a:xfrm>
          <a:prstGeom prst="rect">
            <a:avLst/>
          </a:prstGeom>
          <a:solidFill>
            <a:srgbClr val="d0af72"/>
          </a:solidFill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3809880" y="434340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Sand   Castl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shells did Frank find on Monday than on Wednes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a good estimate of the total number of shells that Frank found on the beach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inutes did Frank spend swimming on Fri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pattern continued how many shells would Frank have found on Thursday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5998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as the perimeter of the sand castl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20:34:49Z</dcterms:created>
  <dc:creator>127partidak</dc:creator>
  <dc:description/>
  <dc:language>en-US</dc:language>
  <cp:lastModifiedBy>127partidak</cp:lastModifiedBy>
  <dcterms:modified xsi:type="dcterms:W3CDTF">2011-09-16T20:41:48Z</dcterms:modified>
  <cp:revision>1</cp:revision>
  <dc:subject/>
  <dc:title>Information</dc:title>
</cp:coreProperties>
</file>